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3760" y="-14400"/>
            <a:ext cx="1018224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73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sident Johnson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1033560" y="1808280"/>
            <a:ext cx="82677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ad 26 years of experience in Congres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orked to find consensus and build coalitions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nfluenced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Other America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ursued an anti-poverty program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oposed the Economic Opportunity Act—passed by Congress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on the 1964 presidential election against Barry Goldwater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6-03-02T13:20:04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